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5.gif" ContentType="image/gif"/>
  <Override PartName="/ppt/media/image8.wmf" ContentType="image/x-wmf"/>
  <Override PartName="/ppt/media/image13.wmf" ContentType="image/x-wmf"/>
  <Override PartName="/ppt/media/image6.wmf" ContentType="image/x-wmf"/>
  <Override PartName="/ppt/media/image7.jpeg" ContentType="image/jpeg"/>
  <Override PartName="/ppt/media/image12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7CB3-785A-4907-B4BD-FE28AD994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B48A-EA28-4295-972A-C67670B2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3724-6A28-4122-B03A-4ACA535E0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0FC6-E404-417B-967D-E7D02642B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FFCE-E10F-4BEB-B669-44E496F1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56AC-3810-4A68-9B8B-25FA5AE9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8A9A-A02C-46AB-BB37-B204F826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3EE7-60B2-40C9-A36E-7A07B33C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B44F-808D-4776-B3FD-792C6BCD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AB66-3127-4335-9365-25D9D262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C109-C7DB-4708-818B-65AA92ED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00AB-0D5D-4901-9FC9-BA55AA3E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7EFA-00C0-4C97-BFEA-F87E7BBC0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wm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gif"/><Relationship Id="rId3" Type="http://schemas.openxmlformats.org/officeDocument/2006/relationships/image" Target="../media/image13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microsoft.com/" TargetMode="External"/><Relationship Id="rId2" Type="http://schemas.openxmlformats.org/officeDocument/2006/relationships/hyperlink" Target="http://www.the-office.com/bedtime-story/itssocold.htm" TargetMode="External"/><Relationship Id="rId3" Type="http://schemas.openxmlformats.org/officeDocument/2006/relationships/hyperlink" Target="http://www.microsoft.com/" TargetMode="External"/><Relationship Id="rId4" Type="http://schemas.openxmlformats.org/officeDocument/2006/relationships/hyperlink" Target="http://www.microsoft.com/" TargetMode="External"/><Relationship Id="rId5" Type="http://schemas.openxmlformats.org/officeDocument/2006/relationships/hyperlink" Target="http://www.freeplaymusic.com/" TargetMode="External"/><Relationship Id="rId6" Type="http://schemas.openxmlformats.org/officeDocument/2006/relationships/hyperlink" Target="http://www.microsoft.com/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.wmf"/><Relationship Id="rId3" Type="http://schemas.openxmlformats.org/officeDocument/2006/relationships/image" Target="../media/image5.gi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wm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6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wm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gi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5029200"/>
            <a:ext cx="25905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rick Bur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15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#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362320" y="2362320"/>
            <a:ext cx="4066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Who's Under the Bed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6483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019920" y="2876400"/>
            <a:ext cx="2449440" cy="3981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990720" y="2133720"/>
            <a:ext cx="2298600" cy="4171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743200" y="2666880"/>
            <a:ext cx="1447920" cy="2362320"/>
          </a:xfrm>
          <a:prstGeom prst="wedgeRoundRectCallout">
            <a:avLst>
              <a:gd name="adj1" fmla="val -78291"/>
              <a:gd name="adj2" fmla="val 1270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am glad we are friends. I thought you were going to be mean but I was wrong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924680" y="2666880"/>
            <a:ext cx="838440" cy="1524240"/>
          </a:xfrm>
          <a:prstGeom prst="wedgeRoundRectCallout">
            <a:avLst>
              <a:gd name="adj1" fmla="val -116097"/>
              <a:gd name="adj2" fmla="val 4718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you still afraid of me!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5257800"/>
            <a:ext cx="1066680" cy="1295280"/>
          </a:xfrm>
          <a:prstGeom prst="wedgeRoundRectCallout">
            <a:avLst>
              <a:gd name="adj1" fmla="val -54763"/>
              <a:gd name="adj2" fmla="val -13676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don’t know, I still can’t believe i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8862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20120" y="4648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60199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Now they are friends, and the monster lives in bob’s clos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29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990720" y="3962520"/>
            <a:ext cx="1123920" cy="2038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905120" y="3200400"/>
            <a:ext cx="7238880" cy="3232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477120" y="4191120"/>
            <a:ext cx="1218960" cy="1981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477120" y="60199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29000" y="38862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001000" y="9907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5791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stellar"/>
              </a:rPr>
              <a:t>Don’t judge a book by it’s  co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 ,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reature from the black lago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3/13/12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icrosof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ffice.com,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ts soco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3/12/12,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the-office.com/bedtime-story/itssocold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icrosoft, scared boy, 3/13/12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Microsof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icrosoft, rooms, 3/13/12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Microsoft.co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sic: free play music, Amends, 4/5/2012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freeplaymusic.co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itchen,park,living room, bed room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Microsof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71800" y="0"/>
            <a:ext cx="61722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There once was a boy that liked to be exciting and went on adventures. He always liked to be in his room. His name was Billy. Billy believed in monsters and supernatural figur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3200400" cy="6400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8862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17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One day Billy was in his room and he had just finished playing his favorite game ,which was being a super hero. He took off his outfit and was looking for something to d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2287440" cy="3581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480" y="65214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"/>
              </a:rPr>
              <a:t>Now that he was dressed normally he was going to get some toys from under his bed, but then he heard a clatter. He didn’t know what to do!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2819520"/>
            <a:ext cx="9144000" cy="4038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28600" y="3809880"/>
            <a:ext cx="1905120" cy="2419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38862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467480" y="51814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The monster came from out of the bed and started to dance around and grow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544760"/>
            <a:ext cx="9144000" cy="5313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3505320"/>
            <a:ext cx="2216160" cy="2838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28600" y="3809880"/>
            <a:ext cx="1905120" cy="2419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447920" y="3657600"/>
            <a:ext cx="182880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is that?!?!?!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219320" y="42670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295280" y="43430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48320" y="3505320"/>
            <a:ext cx="1295280" cy="6094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! I live under your, I mean, my b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62485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8862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3048120" y="2819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162920" y="22096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2458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The monster chased the boy into the kitchen. he was running around trying not to get caught!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960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2244600"/>
            <a:ext cx="9144000" cy="4613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 rot="16200000">
            <a:off x="5486400" y="4934160"/>
            <a:ext cx="1371600" cy="1923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143000" y="4267080"/>
            <a:ext cx="1905120" cy="2419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04920" y="28195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63244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5791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They ran for a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omic"/>
              </a:rPr>
              <a:t>long</a:t>
            </a: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 time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705720" y="4898880"/>
            <a:ext cx="1981080" cy="1959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066680" y="4572000"/>
            <a:ext cx="2216160" cy="2000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14600" y="4572000"/>
            <a:ext cx="1447920" cy="609480"/>
          </a:xfrm>
          <a:prstGeom prst="wedgeRoundRectCallout">
            <a:avLst>
              <a:gd name="adj1" fmla="val -75768"/>
              <a:gd name="adj2" fmla="val 4166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e get m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38862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15200" y="65214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61722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99"/>
                </a:solidFill>
                <a:latin typeface="comic"/>
              </a:rPr>
              <a:t>After more running they ran into the living room and the monster calmed down and explained him self .they   </a:t>
            </a:r>
            <a:br>
              <a:rPr sz="4000"/>
            </a:br>
            <a:r>
              <a:rPr b="0" lang="en-US" sz="4000" spc="-1" strike="noStrike">
                <a:solidFill>
                  <a:srgbClr val="ff9999"/>
                </a:solidFill>
                <a:latin typeface="comic"/>
              </a:rPr>
              <a:t>became friend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362320" y="3124080"/>
            <a:ext cx="1371600" cy="2229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648320" y="4038480"/>
            <a:ext cx="1143000" cy="1809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352680" y="2819520"/>
            <a:ext cx="1524240" cy="914400"/>
          </a:xfrm>
          <a:prstGeom prst="wedgeEllipseCallout">
            <a:avLst>
              <a:gd name="adj1" fmla="val -67606"/>
              <a:gd name="adj2" fmla="val 460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had nowhere to 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62720" y="4419720"/>
            <a:ext cx="2361960" cy="1218960"/>
          </a:xfrm>
          <a:prstGeom prst="wedgeEllipseCallout">
            <a:avLst>
              <a:gd name="adj1" fmla="val -61490"/>
              <a:gd name="adj2" fmla="val -141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can stay in my clos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335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51814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57150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They wondered into the forest while talking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33520" y="4572000"/>
            <a:ext cx="1143000" cy="1809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371600" y="4724280"/>
            <a:ext cx="1752480" cy="1371600"/>
          </a:xfrm>
          <a:prstGeom prst="wedgeRoundRectCallout">
            <a:avLst>
              <a:gd name="adj1" fmla="val -59782"/>
              <a:gd name="adj2" fmla="val 358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y do you always float into the room, that’s creep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114800" y="4616280"/>
            <a:ext cx="1828800" cy="16513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410080" y="4419720"/>
            <a:ext cx="1981440" cy="533160"/>
          </a:xfrm>
          <a:prstGeom prst="wedgeRoundRectCallout">
            <a:avLst>
              <a:gd name="adj1" fmla="val -62578"/>
              <a:gd name="adj2" fmla="val 7143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s my nature, that’s what I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8862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952880" y="5867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63244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8:38:18Z</dcterms:created>
  <dc:creator>install</dc:creator>
  <dc:description/>
  <dc:language>en-US</dc:language>
  <cp:lastModifiedBy>install</cp:lastModifiedBy>
  <dcterms:modified xsi:type="dcterms:W3CDTF">2012-04-13T18:09:48Z</dcterms:modified>
  <cp:revision>12</cp:revision>
  <dc:subject/>
  <dc:title>Slide 1</dc:title>
</cp:coreProperties>
</file>